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A68-F07A-4254-94B1-0B4E8D3A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448-2BB4-4606-83DC-CB38840B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A1C-F47D-4724-8A1F-261A5955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BCB-4E2F-455C-9F93-D32BD1C0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289-409C-42F8-A9D7-184B4840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9AE-2092-42FE-A109-FB870A0B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BCB-9EE3-4FA6-BA91-ABEF3E6C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ECA-C8A9-4F4F-9144-BBD16B1D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70A-36F7-4847-BD79-B28DCBE0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B8F-17BC-4CB0-ACB2-63272BA3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C1A-1A1E-460E-9CEF-8BA90640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B00-F7A5-444B-8729-36E8AF4F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BFE0-FC41-48AC-A183-A8AC8BAF9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nsu.edu/emuseum/history/middleages/contents.htm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5769000" y="1553400"/>
            <a:ext cx="290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lephant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Elephant"/>
              </a:rPr>
              <a:t>medium aevum”, 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lephant"/>
              </a:rPr>
              <a:t>(Medieval)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lephant"/>
              </a:rPr>
              <a:t>Is Latin for the Middle Ages 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42" name="Picture 6" descr="rainb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7432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Old English Text MT"/>
              </a:rPr>
              <a:t>Agenda 4-2 &amp; 3-12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Blabberize Bio due next week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990720"/>
            <a:ext cx="5105520" cy="78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Focus: 4-2 &amp; 3-12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1. List 3 reasons why Rome Fell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0" y="1676520"/>
            <a:ext cx="5105520" cy="132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Franklin Gothic Book"/>
              </a:rPr>
              <a:t>Rome became too big to govern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Franklin Gothic Book"/>
              </a:rPr>
              <a:t>The barbarian attacks weakened the empire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Franklin Gothic Book"/>
              </a:rPr>
              <a:t>The army became weaker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5638680" y="228600"/>
            <a:ext cx="28195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out a highlighter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8:32:20Z</dcterms:created>
  <dc:creator>Barbershill</dc:creator>
  <dc:description/>
  <dc:language>en-US</dc:language>
  <cp:lastModifiedBy>poweruser</cp:lastModifiedBy>
  <dcterms:modified xsi:type="dcterms:W3CDTF">2012-04-16T13:01:04Z</dcterms:modified>
  <cp:revision>51</cp:revision>
  <dc:subject/>
  <dc:title>PowerPoint Presentation</dc:title>
</cp:coreProperties>
</file>